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2.jpeg" ContentType="image/jpeg"/>
  <Override PartName="/ppt/media/image7.wmf" ContentType="image/x-wmf"/>
  <Override PartName="/ppt/media/image8.wmf" ContentType="image/x-wmf"/>
  <Override PartName="/ppt/media/image9.png" ContentType="image/png"/>
  <Override PartName="/ppt/media/image11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B78-AA11-4BAE-9F88-347EA48B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376-4E02-477E-8FA1-24B4E0C5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043-339B-49EA-BAE1-6A85779D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20B-535B-4FCB-AD59-4F03A451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DD53-0A65-4083-BA68-4C8221A0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2B3C-042D-4106-8D2E-64BD1F48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CE17-B2A5-4ACB-B6A1-16AF5BE2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483E-A977-4052-ACD0-EF93770E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98CC-D3E5-470E-AA00-921F8071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0837-D4B3-407B-A1A1-6F38BE8F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24BD-5568-4D2A-90F2-69D2D84A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091-E865-412A-85E9-6B3AC76F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9412-C013-431C-8251-4880BEA0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1DB8-213E-471D-9F61-5A410CD4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1D5A-79DF-402F-AC60-030EEDF6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9E58-AD7E-4A27-ACEC-4C4DF161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411F-11F3-40C8-BE1B-852438A0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7B5-D554-4966-8308-14A8C6EC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4BA-49B1-4AB2-9513-72EA32F9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7940-A59A-4650-9931-D02F9242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B29-9102-4407-905A-C66AA966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598-7DA7-4087-A2DE-D7F4D2B8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A3C-F183-48E0-AF9E-A68E9CCE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7A7B-E9DD-4035-9C42-310C630A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9CF3-3808-4AA6-8707-CBEBF19B02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596A-894E-4C0A-9674-FD0075A4E8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2/GuptaEmpire300-550.pn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poster.4teachers.org/imgFilePoster/209342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handraguptaIIOnHorse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en.wikipedia.org/wiki/File:Queen_Kumaradevi_and_King_Chandragupta_I_on_a_coin_of_their_son_Samudragupta_350_380_CE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GUPTA EMPI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" descr="File:GuptaEmpire300-550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905120"/>
            <a:ext cx="3844800" cy="3962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The Gupta Empi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1905120"/>
            <a:ext cx="3426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xplain why the Gupta Empire is known as a “golden age” 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its peaceful time period, 320 to 467, India was very prosperous and had many achievements and developme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773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ported Goods from Ind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G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Pear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Perfu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Pe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Gin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Cinna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 Other Sp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. Cotton cl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. Red dy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. Timber (woo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2361960" cy="1568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8958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ed Goods to Ind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e:  G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a:  Si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abia:  Hor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Asia:  Hor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666880" y="4648320"/>
            <a:ext cx="35053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is a guild and give examples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uild is groups of craftspeople and merchants who did the same type of wo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 of guilds are:  weavers, potters, carpenters, carver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4572000"/>
            <a:ext cx="1820880" cy="1581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62720" y="449568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Role of the Guilds and their Importan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uilds looked after their members, set prices and wages, and made sure quality work was done/performed.  By doing this they lived in the same section of town and made sure they and their product/service were goo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62720" y="4648320"/>
            <a:ext cx="2106360" cy="2003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09680" y="5257800"/>
            <a:ext cx="18147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chievements of the Gupta Empi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Literature – great works about the Hindu reli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Astronomy – knew the earth was a sphere and that it rotated around the sun, knew the length of a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Mathematics – gave us the zero and the deci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Metalwork – very pure i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Universities – built many colle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Roads – were built for travel and trade, were safe, comfortable, and well marked with sig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scription of the Gupta Empi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705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ed from 320 to 4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aceful and hap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perous with lots of t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creative with many advancements          and quality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hospitals, roads, univers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tle cr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guilds living in their own section of t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s decline was caused by invaders from Central Asia, called the White Hu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1447920"/>
            <a:ext cx="1676520" cy="1752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4343400"/>
            <a:ext cx="178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2:38:53Z</dcterms:created>
  <dc:creator>tcneff</dc:creator>
  <dc:description/>
  <dc:language>en-US</dc:language>
  <cp:lastModifiedBy>gehadde</cp:lastModifiedBy>
  <dcterms:modified xsi:type="dcterms:W3CDTF">2012-02-10T15:59:46Z</dcterms:modified>
  <cp:revision>14</cp:revision>
  <dc:subject/>
  <dc:title>Warm-Up #5</dc:title>
</cp:coreProperties>
</file>